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camera.wav" ContentType="audio/x-wav"/>
  <Override PartName="/ppt/media/image6.png" ContentType="image/png"/>
  <Override PartName="/ppt/media/image7.jpeg" ContentType="image/jpeg"/>
  <Override PartName="/ppt/media/applause.wav" ContentType="audio/x-wav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7B7A-519C-478C-B946-887369FD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137F-261D-4496-887E-70F752EF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C095-5E6A-4872-967A-AF7C7B57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06B9-F355-462B-8305-43240221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9B58-ED38-4E1B-BE29-F06C82F1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8CB7-C9CF-4BFD-A86A-B9055634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0DCF-3221-49B3-8334-3886B3F7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D3D5-6407-4BDD-AF73-3FDBD3F8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0E63-EF79-456D-B3F5-A1A0C78D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2BC7-6BAC-443B-BDB4-270D889C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913F-8D3A-491F-8DA1-3CB0EF1B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1BFF-AF58-4E56-A8C6-A74D2E08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9E51-1AEE-493F-A625-8EF99769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4B12-DA0F-4179-9704-D751D6A9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F7B0-D8E2-4BD0-85BF-E6F2EA36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99AE-07E9-4AFD-8031-80E51251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8C43-4E07-43B8-BF01-383600B5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D17A-5E2D-4D8C-8A41-6D79A6C8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018E-2C04-4432-8C84-A684EC65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8B91-A6AE-4DF3-AD6E-BA849FEE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2843-11ED-41BA-AE06-0C8158D9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0998-1115-4805-A530-30AC0FF2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4C84-01DB-4BAA-B4AE-F31D906E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957B-DEF0-47CD-B44B-7AC50C27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4D9C-AD5D-41E5-92EB-AB1C3D220E69}" type="slidenum">
              <a:rPr b="0" lang="es-MX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566E-B12B-46CE-B9A0-C06385E0B7DB}" type="slidenum">
              <a:rPr b="0" lang="es-MX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inemexicano.mty.itesm.mx/directores/fernando_fuentes.html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008000" y="1341360"/>
            <a:ext cx="8136000" cy="20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af528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os años dorados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af528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af528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del cine mexican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af528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1280" y="4572000"/>
            <a:ext cx="9072720" cy="2286000"/>
            <a:chOff x="71280" y="4572000"/>
            <a:chExt cx="9072720" cy="2286000"/>
          </a:xfrm>
        </p:grpSpPr>
        <p:sp>
          <p:nvSpPr>
            <p:cNvPr id="213" name=""/>
            <p:cNvSpPr/>
            <p:nvPr/>
          </p:nvSpPr>
          <p:spPr>
            <a:xfrm>
              <a:off x="324000" y="4643640"/>
              <a:ext cx="8640720" cy="21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aphicFrame>
          <p:nvGraphicFramePr>
            <p:cNvPr id="214" name=""/>
            <p:cNvGraphicFramePr/>
            <p:nvPr/>
          </p:nvGraphicFramePr>
          <p:xfrm>
            <a:off x="71280" y="4572000"/>
            <a:ext cx="9072720" cy="228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280" y="4572000"/>
                      <a:ext cx="9072720" cy="228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5148360" y="5004000"/>
              <a:ext cx="1127160" cy="14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4"/>
            <a:stretch/>
          </p:blipFill>
          <p:spPr>
            <a:xfrm>
              <a:off x="2700360" y="4932360"/>
              <a:ext cx="1873080" cy="151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5"/>
            <a:stretch/>
          </p:blipFill>
          <p:spPr>
            <a:xfrm>
              <a:off x="324000" y="5004000"/>
              <a:ext cx="1871640" cy="14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6"/>
            <a:stretch/>
          </p:blipFill>
          <p:spPr>
            <a:xfrm>
              <a:off x="6732720" y="5076720"/>
              <a:ext cx="2016000" cy="1341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00ff"/>
                </a:solidFill>
                <a:latin typeface="Arial"/>
              </a:rPr>
              <a:t>La época de oro del cine mexican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4560" y="2053800"/>
            <a:ext cx="64800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Inicia en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1936 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con el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streno de la película Allá en el Rancho Grande (de Fernando de Fuente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20360" y="1268280"/>
            <a:ext cx="22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1936-1957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32040" y="4365720"/>
            <a:ext cx="69148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buClr>
                <a:srgbClr val="65b2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ermina en 1957, con la muerte 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edro Inf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00ff"/>
                </a:solidFill>
                <a:latin typeface="Arial"/>
              </a:rPr>
              <a:t>Los grandes actores</a:t>
            </a: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8400" y="1769760"/>
            <a:ext cx="3598920" cy="27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Pedro Infan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María Félix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Mario Moreno "Cantinflas"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Pedro Armendári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ndrea Palm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Jorge Negret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43280" y="1916280"/>
            <a:ext cx="36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Sara Garcí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Fernando Sol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ndrés Soler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Joaquín Pardavé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rturo de Córdova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Dolores del Rí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00ff"/>
                </a:solidFill>
                <a:latin typeface="Arial"/>
              </a:rPr>
              <a:t>Los grandes directo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Arial"/>
              </a:rPr>
              <a:t>Emilio Fernández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Arial"/>
              </a:rPr>
              <a:t>Julio Bracho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Arial"/>
              </a:rPr>
              <a:t>Roberto Gavaldó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eaeaea"/>
                </a:solidFill>
                <a:latin typeface="Arial"/>
              </a:rPr>
              <a:t>Ismael Rodríguez</a:t>
            </a:r>
            <a:r>
              <a:rPr b="0" lang="es-MX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00ff"/>
                </a:solidFill>
                <a:latin typeface="Arial"/>
              </a:rPr>
              <a:t>María Félix, la Doñ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Su primer película, con Pedro Infante, la convirtió en una gran estrell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492360" y="3068640"/>
            <a:ext cx="2181240" cy="29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395280" y="333360"/>
          <a:ext cx="8532720" cy="6021360"/>
        </p:xfrm>
        <a:graphic>
          <a:graphicData uri="http://schemas.openxmlformats.org/drawingml/2006/table">
            <a:tbl>
              <a:tblPr/>
              <a:tblGrid>
                <a:gridCol w="2741760"/>
                <a:gridCol w="57909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Una producción de:</a:t>
                      </a:r>
                      <a:r>
                        <a:rPr b="0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Clasa Films (originalmente Jesús Grovas)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Género:</a:t>
                      </a:r>
                      <a:r>
                        <a:rPr b="0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Melodrama rural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Duración:</a:t>
                      </a:r>
                      <a:r>
                        <a:rPr b="0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138 min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Dirección:</a:t>
                      </a:r>
                      <a:r>
                        <a:rPr b="0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 u="sng">
                          <a:solidFill>
                            <a:srgbClr val="65b2ff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Fernando de Fuentes</a:t>
                      </a:r>
                      <a:r>
                        <a:rPr b="0" lang="es-ES" sz="2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; codirector: Miguel M. Delgado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Guión</a:t>
                      </a:r>
                      <a:r>
                        <a:rPr b="1" lang="es-ES" sz="2400" spc="-1" strike="noStrike">
                          <a:solidFill>
                            <a:srgbClr val="9900ff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99ccff"/>
                          </a:solidFill>
                          <a:latin typeface="Arial"/>
                          <a:ea typeface="Times New Roman"/>
                        </a:rPr>
                        <a:t>Rómulo Gallegos y Fernando de Fuentes, sobre la novela homónima de Rómulo Gallego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1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0" spc="-1" strike="noStrike">
                          <a:solidFill>
                            <a:srgbClr val="66ff66"/>
                          </a:solidFill>
                          <a:latin typeface="Arial"/>
                          <a:ea typeface="Times New Roman"/>
                        </a:rPr>
                        <a:t>DOÑA BÁRBARA</a:t>
                      </a:r>
                      <a:endParaRPr b="0" lang="en-US" sz="6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00ff"/>
                </a:solidFill>
                <a:latin typeface="Arial"/>
              </a:rPr>
              <a:t>Resumen de Doña Bárba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01480" y="2053800"/>
            <a:ext cx="633420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espués de estudiar leyes en Caracas, Santos Luzardo regresa a Altamira,  en la llanura venezolana dominada por doña Bárbara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68360" y="189000"/>
            <a:ext cx="7488360" cy="446400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6275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oña bárbara domina la región y a los campesinos, porque es una mujer de mano dura, astuta y además, practica la brujería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24000" y="4437000"/>
            <a:ext cx="8820000" cy="242100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94920" y="4724280"/>
            <a:ext cx="80024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oña Bárbara se enamore del joven e intente conseguirlo a cualquier prec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21:53:07Z</dcterms:created>
  <dc:creator>rocio</dc:creator>
  <dc:description/>
  <dc:language>en-US</dc:language>
  <cp:lastModifiedBy>rocio</cp:lastModifiedBy>
  <dcterms:modified xsi:type="dcterms:W3CDTF">2006-03-28T23:55:35Z</dcterms:modified>
  <cp:revision>24</cp:revision>
  <dc:subject/>
  <dc:title>Diapositiva 1</dc:title>
</cp:coreProperties>
</file>